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7ED-F122-49F4-B4B9-84CB529F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20F-213C-43E4-8C24-5615E40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688-6435-4296-9804-E1AAF37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E41-FB7D-49D9-BDB0-3EBCFB67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F20-E43F-4D70-9964-4FF6FFD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3CB-F70D-4963-9A2B-854696E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6E0-AD7C-48C8-8F3C-ECDF039F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40D-8F7A-4700-A704-34C4910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E1E-F2D1-4320-801C-AD2B52A5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5D1-82A6-4663-800D-CCE9DC7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705-E953-4420-9FB8-26567CF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6A0-5AB4-46E9-96CF-3E2B35D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581-08E3-49C8-B5AD-F9AF414EF4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:  Structure, Species Interactions, Succession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3240" y="1557360"/>
            <a:ext cx="877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mutualism:  pol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520" y="3178080"/>
            <a:ext cx="7868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/protec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76520" y="4146480"/>
            <a:ext cx="5790960" cy="2332080"/>
            <a:chOff x="1676520" y="4146480"/>
            <a:chExt cx="5790960" cy="2332080"/>
          </a:xfrm>
        </p:grpSpPr>
        <p:sp>
          <p:nvSpPr>
            <p:cNvPr id="172" name=""/>
            <p:cNvSpPr/>
            <p:nvPr/>
          </p:nvSpPr>
          <p:spPr>
            <a:xfrm>
              <a:off x="1676520" y="4146480"/>
              <a:ext cx="5790960" cy="23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757160" y="4186440"/>
              <a:ext cx="3292200" cy="22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5041800" y="4179960"/>
              <a:ext cx="239508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3, p. 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040" y="1747800"/>
            <a:ext cx="5239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rect:  i.e.,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040" y="3965400"/>
            <a:ext cx="5067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rect:  i.e., epiphytes, remo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14640" y="6097680"/>
            <a:ext cx="245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8-14 p. 1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lide17" descr=""/>
          <p:cNvPicPr/>
          <p:nvPr/>
        </p:nvPicPr>
        <p:blipFill>
          <a:blip r:embed="rId1"/>
          <a:srcRect l="22224" t="677" r="22756" b="1391"/>
          <a:stretch/>
        </p:blipFill>
        <p:spPr>
          <a:xfrm>
            <a:off x="5370480" y="1555920"/>
            <a:ext cx="377352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231920"/>
            <a:ext cx="9144000" cy="56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4840" y="1244520"/>
            <a:ext cx="9060840" cy="5543280"/>
            <a:chOff x="24840" y="1244520"/>
            <a:chExt cx="9060840" cy="55432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52640" y="1244520"/>
              <a:ext cx="8867520" cy="54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flipV="1">
              <a:off x="967680" y="5658840"/>
              <a:ext cx="7998120" cy="1128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360" y="62265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11920" y="5601960"/>
              <a:ext cx="11224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her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shru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61280" y="5543280"/>
              <a:ext cx="1003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h 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35840" y="5183280"/>
              <a:ext cx="1235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ck pin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ack spruc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as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86200" y="4840200"/>
              <a:ext cx="159948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lsam f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per birch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ite spru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x commun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0" y="4038840"/>
              <a:ext cx="86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xpos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o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4200" y="4038840"/>
              <a:ext cx="1131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iche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nd moss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15, p. 1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1680" y="1284120"/>
            <a:ext cx="8539200" cy="5469120"/>
            <a:chOff x="301680" y="1284120"/>
            <a:chExt cx="8539200" cy="5469120"/>
          </a:xfrm>
        </p:grpSpPr>
        <p:sp>
          <p:nvSpPr>
            <p:cNvPr id="205" name=""/>
            <p:cNvSpPr/>
            <p:nvPr/>
          </p:nvSpPr>
          <p:spPr>
            <a:xfrm>
              <a:off x="301680" y="1284120"/>
              <a:ext cx="8539200" cy="546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76200" y="1332000"/>
              <a:ext cx="8388360" cy="5368320"/>
              <a:chOff x="376200" y="1332000"/>
              <a:chExt cx="8388360" cy="536832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6200" y="1332000"/>
                <a:ext cx="8388360" cy="526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flipV="1">
                <a:off x="1303920" y="5497560"/>
                <a:ext cx="7446960" cy="120276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42360" y="610236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03560" y="5841000"/>
                <a:ext cx="73548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nu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ee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57120" y="5565240"/>
                <a:ext cx="109368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enn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eeds an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ass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72920" y="555336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rub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23120" y="5348880"/>
                <a:ext cx="15811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ng pine 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83240" y="5037120"/>
                <a:ext cx="2198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ture oak-hickory 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71946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16, p. 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ccession and Wild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160" y="2251080"/>
            <a:ext cx="9066240" cy="3699000"/>
            <a:chOff x="38160" y="2251080"/>
            <a:chExt cx="9066240" cy="369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8160" y="2251080"/>
              <a:ext cx="197496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397240" y="2251080"/>
              <a:ext cx="197460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756320" y="2251080"/>
              <a:ext cx="197928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7120080" y="2252520"/>
              <a:ext cx="1984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905120" y="3181320"/>
              <a:ext cx="609480" cy="495360"/>
            </a:xfrm>
            <a:prstGeom prst="rightArrow">
              <a:avLst>
                <a:gd name="adj1" fmla="val 50000"/>
                <a:gd name="adj2" fmla="val 30759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29280" y="3181320"/>
              <a:ext cx="609480" cy="495360"/>
            </a:xfrm>
            <a:prstGeom prst="rightArrow">
              <a:avLst>
                <a:gd name="adj1" fmla="val 50000"/>
                <a:gd name="adj2" fmla="val 30759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3181320"/>
              <a:ext cx="609840" cy="495360"/>
            </a:xfrm>
            <a:prstGeom prst="rightArrow">
              <a:avLst>
                <a:gd name="adj1" fmla="val 50000"/>
                <a:gd name="adj2" fmla="val 30778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360" y="5454720"/>
              <a:ext cx="609840" cy="495360"/>
            </a:xfrm>
            <a:prstGeom prst="rightArrow">
              <a:avLst>
                <a:gd name="adj1" fmla="val 50000"/>
                <a:gd name="adj2" fmla="val 30778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040" y="2425680"/>
              <a:ext cx="18068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arly 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b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u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ingneck phea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obo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ocket gop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1920" y="2425680"/>
              <a:ext cx="16056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d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uffled gr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nowshoe 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bi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8360" y="2425680"/>
              <a:ext cx="17352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te 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ammond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lycat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ay squirr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7520" y="2425680"/>
              <a:ext cx="15494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lder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izzly b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ib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ighorn she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lifornia 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eat horned ow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160" y="5549760"/>
              <a:ext cx="20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ological succ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7, p. 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5760" y="6135840"/>
            <a:ext cx="427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Table 8-1 p. 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5600" y="3440160"/>
            <a:ext cx="427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Table 8-2 p. 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26280" y="1500120"/>
            <a:ext cx="9131760" cy="5218200"/>
            <a:chOff x="-26280" y="1500120"/>
            <a:chExt cx="9131760" cy="5218200"/>
          </a:xfrm>
        </p:grpSpPr>
        <p:sp>
          <p:nvSpPr>
            <p:cNvPr id="55" name=""/>
            <p:cNvSpPr/>
            <p:nvPr/>
          </p:nvSpPr>
          <p:spPr>
            <a:xfrm>
              <a:off x="38160" y="1503360"/>
              <a:ext cx="2655720" cy="519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-26280" y="1500120"/>
              <a:ext cx="9131760" cy="5218200"/>
              <a:chOff x="-26280" y="1500120"/>
              <a:chExt cx="9131760" cy="5218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2240" y="1500120"/>
                <a:ext cx="8373240" cy="52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12720" y="60235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6000" y="6023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0200" y="4758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70800" y="1828440"/>
                <a:ext cx="289080" cy="4390920"/>
                <a:chOff x="370800" y="1828440"/>
                <a:chExt cx="289080" cy="43909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15160" y="1828440"/>
                  <a:ext cx="0" cy="437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70800" y="621936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70800" y="182844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15160" y="490536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76560" y="401760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15160" y="349452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15160" y="205920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40320" y="3870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19560" y="3335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9560" y="19119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26280" y="16930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97640" y="6246720"/>
                <a:ext cx="92736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op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ain 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3120" y="6246720"/>
                <a:ext cx="9853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ifer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40720" y="6246720"/>
                <a:ext cx="9608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cidu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60680" y="6246720"/>
                <a:ext cx="612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ho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58880" y="6246720"/>
                <a:ext cx="903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ll-gr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air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49880" y="6246720"/>
                <a:ext cx="103716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ort-gr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air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24920" y="6246720"/>
                <a:ext cx="6562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se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ru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39880" y="6246720"/>
                <a:ext cx="612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ho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ru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:  Appearanc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5080" y="1617840"/>
            <a:ext cx="35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71640" y="5186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21120" y="2243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2, p. 1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94120" y="1477800"/>
            <a:ext cx="6090120" cy="3383280"/>
            <a:chOff x="2994120" y="1477800"/>
            <a:chExt cx="6090120" cy="33832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532320" y="1477800"/>
              <a:ext cx="190476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110280" y="1498680"/>
              <a:ext cx="29653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16200000">
              <a:off x="2416320" y="260424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es d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6400" y="2865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98320" y="405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6400" y="16876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2400" y="4243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90˚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196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7088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69760" y="4237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09160" y="424332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˚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432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7880" y="45846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9520" y="16876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2920" y="28749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9600" y="40543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50360" y="42418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˚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624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164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6976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18200" y="423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36280" y="45324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618360" y="168444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4600" y="1704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043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3, p. 1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4960" y="290196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240" y="42242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4600" y="554688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5360" y="1482840"/>
            <a:ext cx="60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a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720" y="237168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720" y="3260880"/>
            <a:ext cx="600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ference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280" y="4149720"/>
            <a:ext cx="600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loitation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5000" y="5038560"/>
            <a:ext cx="748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etitive exclusion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Resource Partitioning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50920" y="1260360"/>
            <a:ext cx="5042160" cy="5599800"/>
            <a:chOff x="2050920" y="1260360"/>
            <a:chExt cx="5042160" cy="5599800"/>
          </a:xfrm>
        </p:grpSpPr>
        <p:grpSp>
          <p:nvGrpSpPr>
            <p:cNvPr id="138" name=""/>
            <p:cNvGrpSpPr/>
            <p:nvPr/>
          </p:nvGrpSpPr>
          <p:grpSpPr>
            <a:xfrm>
              <a:off x="2633760" y="1260360"/>
              <a:ext cx="4459320" cy="5225760"/>
              <a:chOff x="2633760" y="1260360"/>
              <a:chExt cx="4459320" cy="522576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3760" y="1260360"/>
                <a:ext cx="4459320" cy="23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3760" y="4129920"/>
                <a:ext cx="4459320" cy="235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 rot="16200000">
              <a:off x="1178280" y="228924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242000" y="515160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0040" y="655308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0040" y="370044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75680" y="25542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1600" y="25542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38200" y="2994120"/>
              <a:ext cx="1329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iche overl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9040" y="553896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1720" y="553896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999120" y="6261120"/>
            <a:ext cx="21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0, p. 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 to Fig. 8.9, p. 183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1, p. 1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560" y="5337000"/>
            <a:ext cx="498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18760" y="622296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12 p.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bd07333_" descr=""/>
          <p:cNvPicPr/>
          <p:nvPr/>
        </p:nvPicPr>
        <p:blipFill>
          <a:blip r:embed="rId1"/>
          <a:stretch/>
        </p:blipFill>
        <p:spPr>
          <a:xfrm>
            <a:off x="5045040" y="1660680"/>
            <a:ext cx="3624120" cy="36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720" y="184140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" y="3135240"/>
            <a:ext cx="164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4430880"/>
            <a:ext cx="373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opara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720" y="5726160"/>
            <a:ext cx="356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topara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d10856_" descr=""/>
          <p:cNvPicPr/>
          <p:nvPr/>
        </p:nvPicPr>
        <p:blipFill>
          <a:blip r:embed="rId1"/>
          <a:stretch/>
        </p:blipFill>
        <p:spPr>
          <a:xfrm>
            <a:off x="4276800" y="2216160"/>
            <a:ext cx="4572000" cy="289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22:47:31Z</dcterms:modified>
  <cp:revision>27</cp:revision>
  <dc:subject/>
  <dc:title>PowerPoint Presentation</dc:title>
</cp:coreProperties>
</file>